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610-F644-4CF7-B17F-014F17B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CB8-2AA6-44D8-AEA2-902607D2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2C0-BE35-4607-A718-7BC36B5E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4AF-30A1-4DC4-88ED-32F8B6C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B4C-B8B0-46ED-BB75-DF848B6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F6B-A675-489B-A323-7EB44DE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D15-9950-4CCF-AE14-581ABAF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541-C3BB-496C-B14A-38CB79D7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19C-07B8-4A26-8C78-6EEC127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74A-7866-4D61-A666-6CB86F2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BE5-8E53-470A-8F12-3AA462F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8E8-8919-4995-ACB6-F52B6496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4D6-F270-4FDE-BF0F-2EC71030744D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voicethread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Voicethread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rebuchet MS"/>
                <a:hlinkClick r:id="rId1"/>
              </a:rPr>
              <a:t>https://voicethread.com</a:t>
            </a: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take a picture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o to Photo Boo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ke a picture of yourself.  You may have a friend who is sitting near you be in the picture as well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ve the picture on the desktop (in order that you will be able to find it again shortly)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learn about Voicethread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tch this great tutorial!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ow!  Yes!  You too will be have a Voicethread spot to upload your musical performances!  (Remember, this will replace practice records.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time to get started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o to Voicethread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 the upper right hand corner, click on 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gister.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ce you have logged in, upload the picture that you took on Photo Booth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f you finish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are your picture with a frie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mment on a friend’s pictur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hange your name’s icon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5:06:19Z</dcterms:created>
  <dc:creator>Eagle Schools</dc:creator>
  <dc:description/>
  <dc:language>en-US</dc:language>
  <cp:lastModifiedBy>Microsoft Office User</cp:lastModifiedBy>
  <dcterms:modified xsi:type="dcterms:W3CDTF">2011-06-05T03:43:27Z</dcterms:modified>
  <cp:revision>5</cp:revision>
  <dc:subject/>
  <dc:title>Voicethread!</dc:title>
</cp:coreProperties>
</file>